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7FF-7E45-4D01-8C7D-944CB93D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9C3-104F-44CA-B9CE-CCA2DDD2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AFB-B65E-4EA9-9A2C-CB7C0006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437-86D6-476D-8A11-8A124D13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7B8F-7E41-4AA1-BE11-DEBEA89A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A1DD-265D-435D-A196-D61E0110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140E-DD6C-4B93-93F1-F2CC5A06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E52D-9F5C-476C-ABB5-F86CFF74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1225-99DB-4E29-A099-E98D4B0F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7C38-F2EB-43C3-A14F-CC2FAC39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A142-252A-4218-87D9-B960BA06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C3E-FE04-4121-9CCB-214E96FC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420C-A1C3-4292-95C8-88C6047F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CB07-E3C1-41AB-8C83-0516FC8B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D9D6-E891-4C1C-83D4-91C2755F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01E6-3D6B-4A9A-96E3-B22114F4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3CDE-2BD6-4FB1-969D-901BD5FF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CADA5-45E7-4602-8965-A842CDE4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FF827-7531-4830-804A-411777F8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D88A5-CE61-4BD0-8A8F-D8501C3E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E7780-89D0-4971-AFAD-0C5ACB6D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32E15-A08F-48CA-8AE9-A9054804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EC8A-E6B3-4F18-80BC-59EF1170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BAADA-C258-48C6-949F-3F25E965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C7891-A3BD-4222-9B69-B94CFE67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EE145-4487-4E4B-99AF-05DCD93E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86C56-89D3-4B6E-A80F-A66574A9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7D757-22DE-4647-8021-D2D0462F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55AC7-A38E-46D6-AE6E-0E6584C9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9E9C9-0CCD-4D9F-B655-E67F16E7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22DB1E-0AA1-4FF7-9F66-DB0D890B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A229B0-9F87-42AA-BA1C-C7C41EDC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D7EA0-68BC-4B69-A2D6-17BD586A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BB6-73BD-4FA7-8E0B-5E8ED01A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045D10-FC81-4A34-B53C-3F33D370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323DB-E746-4FF8-ACBB-428A1BC6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52D712-4868-4587-988E-7CF95D6C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D96370-DB0B-4BE1-BFE5-5DEBF19B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CCB43F-DB3B-4E2C-9AFF-4DC1DFF9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D99920-CC49-47C2-97A8-A54BBB7F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83203C-38DD-4ACC-950A-069912EB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1A2432-D6B0-49B9-9E95-489092B5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FD639E-1ABA-4E8C-8011-E384C136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A35CC0-CE0E-4636-953D-441A5426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EF1-F165-4348-950B-B7332BDF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EFA92-6740-4BD3-80AD-358526D6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F8D761-925B-4101-911D-EE552679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FAFBF-0EE2-439B-B602-5E8B6E49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167A2-403C-435B-8318-4D50485C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5A045-477E-40E6-B187-BD7C25BD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2A40F-4AEC-4C9F-A826-C2D5D0B4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28F75-9673-4B33-95D7-D23898E8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77E8A-ABAE-451A-B991-76AF0DA8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D85FD-127D-4FDB-8323-74DAB4EB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DC6C5-BCF5-4E25-B790-3ADBBC0C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91A7-1FD5-4DBB-A189-29CBD5A5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9F67DC-6EA7-4E4F-AED8-EEA92975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81D34-F4C9-49C7-9018-5087EDFE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E2A95-EB1B-4864-BC66-E2D3D584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FA693-D7F8-43A8-BCEC-0D6230C9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87F6A-3A67-4A84-A5BF-EB1AEB88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CC985-8307-4D7D-9BBC-DE30A09D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D05B1-6A27-421D-9025-51596C4D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ECD27-1973-46A8-AF61-2C99A355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C7EE3-C396-4C39-AE11-FD3CB846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ACE1B-F9D4-4A98-95BB-5B545586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841-D9A6-45D7-8FAC-8D06450E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E3EBF-89D4-445D-97B0-4C4F400D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EEE5A-DD3E-4CB9-B05C-EB8ABD21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93CF2-460F-427D-A677-0A683565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FFF80B-CCF3-4A6C-A195-A0642A3C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BE7C8-6C5A-4BDE-A6F7-26F5D22B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B51ADB-4971-4E12-83EC-A37C95B5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2F1B46-F3C3-4E4B-9335-70DAB180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352A0F-BA68-4753-8547-86E870F0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9A7030-648D-488B-B522-B8731C82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EAB295-8255-4560-ADBA-E26DE183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613-2416-4612-9B5C-BEF7B646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DD534-061F-48F4-A2E6-018C3873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C8A745-0438-49EF-B58F-4A97E8BF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92F46E-6FE7-48E1-86D3-C7A44F26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63B085-6A6B-4B6F-BAD6-95096FC1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59A70F-873F-4B3F-86C5-E1486839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1F8F0-C02A-4E74-BE0B-A6C2EE45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BB71F-4408-44FB-8E54-ACB5C5DF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D38D3-2D2A-4897-B331-2D30D4B6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E2181-ED29-4D86-AA4A-2FE3A961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4B471-1A7F-412A-A6C1-12653A0B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03B-519E-4ACB-9700-BE7A9502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B9AE0-3A69-49D9-A9D3-D944CC1C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65822-CA6F-4402-B21A-48DC4714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2FE79-D80D-4E9F-A343-9859387E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E18E7-FEDD-43AD-8854-65AE6F5B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C7A08-FA3C-475A-93BD-617DA777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1BC7B-7F5C-435A-9D45-F8B60BFC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B80C8-CB7C-4FA2-B1B5-3BC7410B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A175-0D2D-44FC-AA33-32B134523D8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E956-0E33-4BDD-A005-18B7F6E1E124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130B-C66A-4726-B0C6-A9E4A08402B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9971-D769-4FDB-9776-92DAA1094CC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39F3-CE67-411E-B6A6-589F41EC50F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0108-C3F1-4585-8A70-C392625BB5B3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FB91-C335-4A84-A3F6-3283BF06B420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2F33-A0B4-47A6-AE04-386A81BEE2E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3505320"/>
            <a:ext cx="8153280" cy="230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ARRIAGE HOUSE EXPANSION </a:t>
            </a:r>
            <a:br>
              <a:rPr sz="4400"/>
            </a:br>
            <a:r>
              <a:rPr b="0" lang="en-US" sz="2000" spc="-1" strike="noStrike">
                <a:solidFill>
                  <a:srgbClr val="ebddc3"/>
                </a:solidFill>
                <a:latin typeface="Tw Cen MT"/>
              </a:rPr>
              <a:t>AT THE GROVER CLEVELAND BIRTHPLACE</a:t>
            </a:r>
            <a:endParaRPr b="0" lang="en-US" sz="2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esign and Contract Documents – March 2013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P1160421.JPG"/>
          <p:cNvPicPr/>
          <p:nvPr/>
        </p:nvPicPr>
        <p:blipFill>
          <a:blip r:embed="rId1"/>
          <a:stretch/>
        </p:blipFill>
        <p:spPr>
          <a:xfrm>
            <a:off x="1738440" y="4572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353" name="Subtitle 2"/>
          <p:cNvSpPr/>
          <p:nvPr/>
        </p:nvSpPr>
        <p:spPr>
          <a:xfrm>
            <a:off x="0" y="6095880"/>
            <a:ext cx="220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Connolly &amp; Hickey Historical Architects, L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4060440" y="4572000"/>
            <a:ext cx="362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Photo Credit: Connolly &amp; Hickey Historical Architects,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rior Featur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895480" y="1676520"/>
            <a:ext cx="6096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Use products in new addition with following attributes: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ost-and pre-consumer recycled content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ade in America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Low Volatile Organic Compounds (VOCs). 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9" name="Picture 12" descr="RSTP506_TP058_2.jpg"/>
          <p:cNvPicPr/>
          <p:nvPr/>
        </p:nvPicPr>
        <p:blipFill>
          <a:blip r:embed="rId1"/>
          <a:srcRect l="31671" t="0" r="31671" b="0"/>
          <a:stretch/>
        </p:blipFill>
        <p:spPr>
          <a:xfrm>
            <a:off x="609480" y="1676520"/>
            <a:ext cx="2210040" cy="30906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6" descr="DT_VIBE_COM_550x550.jpg"/>
          <p:cNvPicPr/>
          <p:nvPr/>
        </p:nvPicPr>
        <p:blipFill>
          <a:blip r:embed="rId2"/>
          <a:stretch/>
        </p:blipFill>
        <p:spPr>
          <a:xfrm>
            <a:off x="2514600" y="4038480"/>
            <a:ext cx="2349360" cy="2349720"/>
          </a:xfrm>
          <a:prstGeom prst="rect">
            <a:avLst/>
          </a:prstGeom>
          <a:ln w="0">
            <a:noFill/>
          </a:ln>
        </p:spPr>
      </p:pic>
      <p:sp>
        <p:nvSpPr>
          <p:cNvPr id="421" name="TextBox 17"/>
          <p:cNvSpPr/>
          <p:nvPr/>
        </p:nvSpPr>
        <p:spPr>
          <a:xfrm>
            <a:off x="537840" y="48006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-based tile for flo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8"/>
          <p:cNvSpPr/>
          <p:nvPr/>
        </p:nvSpPr>
        <p:spPr>
          <a:xfrm>
            <a:off x="2446200" y="6400800"/>
            <a:ext cx="25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celain tile for walls in restro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9" descr="F--1115C-Presentation-Carriage House Interiro Elevations moulding (1).tif"/>
          <p:cNvPicPr/>
          <p:nvPr/>
        </p:nvPicPr>
        <p:blipFill>
          <a:blip r:embed="rId3"/>
          <a:srcRect l="34446" t="55153" r="53335" b="7072"/>
          <a:stretch/>
        </p:blipFill>
        <p:spPr>
          <a:xfrm>
            <a:off x="5029200" y="4038480"/>
            <a:ext cx="1219320" cy="2438640"/>
          </a:xfrm>
          <a:prstGeom prst="rect">
            <a:avLst/>
          </a:prstGeom>
          <a:ln w="0">
            <a:noFill/>
          </a:ln>
        </p:spPr>
      </p:pic>
      <p:sp>
        <p:nvSpPr>
          <p:cNvPr id="424" name="Content Placeholder 2"/>
          <p:cNvSpPr/>
          <p:nvPr/>
        </p:nvSpPr>
        <p:spPr>
          <a:xfrm>
            <a:off x="5715000" y="4800600"/>
            <a:ext cx="3276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corporate traditional details, such as wood door and window surrounds, picture mouldings and tri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21"/>
          <p:cNvSpPr/>
          <p:nvPr/>
        </p:nvSpPr>
        <p:spPr>
          <a:xfrm>
            <a:off x="5184000" y="6400800"/>
            <a:ext cx="174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picture mou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stimates of Probable Co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685800" y="1752480"/>
          <a:ext cx="5289480" cy="4583160"/>
        </p:xfrm>
        <a:graphic>
          <a:graphicData uri="http://schemas.openxmlformats.org/drawingml/2006/table">
            <a:tbl>
              <a:tblPr/>
              <a:tblGrid>
                <a:gridCol w="762120"/>
                <a:gridCol w="2133360"/>
                <a:gridCol w="2394000"/>
              </a:tblGrid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. 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O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06,9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54,7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64,46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n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9,44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pe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71,7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isture Pro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72,8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ors &amp; Windo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58,75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ish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76,01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2,87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nish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8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Co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ying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83,35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95,2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839,49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42ae483c-892d-45b7-a363-3db9f7120b18" descr="B4CE6674-3384-4CF4-9797-6D150EF904C4@hsd1"/>
          <p:cNvPicPr/>
          <p:nvPr/>
        </p:nvPicPr>
        <p:blipFill>
          <a:blip r:embed="rId1"/>
          <a:stretch/>
        </p:blipFill>
        <p:spPr>
          <a:xfrm>
            <a:off x="-6480" y="1143000"/>
            <a:ext cx="9150480" cy="48672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8"/>
          <p:cNvSpPr/>
          <p:nvPr/>
        </p:nvSpPr>
        <p:spPr>
          <a:xfrm>
            <a:off x="304920" y="990720"/>
            <a:ext cx="8686800" cy="759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itle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rriage House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itle 1"/>
          <p:cNvSpPr/>
          <p:nvPr/>
        </p:nvSpPr>
        <p:spPr>
          <a:xfrm>
            <a:off x="380880" y="6095880"/>
            <a:ext cx="8153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at the Grover Cleveland Birth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ogram Requirem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store the existing Carriage House to serve as a meeting space to support museum and visitor activities at the Grover Cleveland Birthplace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28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Design an addition that includes a welcoming area, gift shop, meeting space, docent area and accessible restrooms. 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28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Deign new addition to complement the Carriage House’s architecture and work with the site and its current amenities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28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corporate new technologies and materials in the design of the new addition that are sustainable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te Pla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7652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ite Diagram showing Birthplace, Carriage House and proposed addition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7" descr="F--1115C-AutoCAD-Final Design-Plans-Site Plan-SITE PLAN FOR presentation 11X17 (1).tif"/>
          <p:cNvPicPr/>
          <p:nvPr/>
        </p:nvPicPr>
        <p:blipFill>
          <a:blip r:embed="rId1"/>
          <a:stretch/>
        </p:blipFill>
        <p:spPr>
          <a:xfrm>
            <a:off x="2971800" y="380880"/>
            <a:ext cx="5324400" cy="60962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8"/>
          <p:cNvSpPr/>
          <p:nvPr/>
        </p:nvSpPr>
        <p:spPr>
          <a:xfrm>
            <a:off x="2374560" y="2362320"/>
            <a:ext cx="225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AG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Straight Arrow Connector 10"/>
          <p:cNvCxnSpPr/>
          <p:nvPr/>
        </p:nvCxnSpPr>
        <p:spPr>
          <a:xfrm>
            <a:off x="4724280" y="2590560"/>
            <a:ext cx="457920" cy="15300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2" name="Straight Connector 12"/>
          <p:cNvSpPr/>
          <p:nvPr/>
        </p:nvSpPr>
        <p:spPr>
          <a:xfrm>
            <a:off x="4637160" y="2546280"/>
            <a:ext cx="1440" cy="18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4"/>
          <p:cNvSpPr/>
          <p:nvPr/>
        </p:nvSpPr>
        <p:spPr>
          <a:xfrm>
            <a:off x="4572000" y="2590920"/>
            <a:ext cx="152280" cy="14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7"/>
          <p:cNvSpPr/>
          <p:nvPr/>
        </p:nvSpPr>
        <p:spPr>
          <a:xfrm>
            <a:off x="2522160" y="4114800"/>
            <a:ext cx="1614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Straight Arrow Connector 18"/>
          <p:cNvCxnSpPr/>
          <p:nvPr/>
        </p:nvCxnSpPr>
        <p:spPr>
          <a:xfrm>
            <a:off x="4191120" y="4343040"/>
            <a:ext cx="457920" cy="15300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6" name="Straight Connector 19"/>
          <p:cNvSpPr/>
          <p:nvPr/>
        </p:nvSpPr>
        <p:spPr>
          <a:xfrm>
            <a:off x="4038480" y="4343400"/>
            <a:ext cx="152640" cy="14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1"/>
          <p:cNvSpPr/>
          <p:nvPr/>
        </p:nvSpPr>
        <p:spPr>
          <a:xfrm>
            <a:off x="6179040" y="1752480"/>
            <a:ext cx="127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Straight Arrow Connector 22"/>
          <p:cNvCxnSpPr/>
          <p:nvPr/>
        </p:nvCxnSpPr>
        <p:spPr>
          <a:xfrm flipH="1">
            <a:off x="5866560" y="1905120"/>
            <a:ext cx="229320" cy="30528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9" name="Straight Connector 25"/>
          <p:cNvSpPr/>
          <p:nvPr/>
        </p:nvSpPr>
        <p:spPr>
          <a:xfrm>
            <a:off x="6095880" y="1905120"/>
            <a:ext cx="152640" cy="14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6"/>
          <p:cNvSpPr/>
          <p:nvPr/>
        </p:nvSpPr>
        <p:spPr>
          <a:xfrm>
            <a:off x="4190400" y="6248520"/>
            <a:ext cx="2657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FIELD A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7"/>
          <p:cNvSpPr/>
          <p:nvPr/>
        </p:nvSpPr>
        <p:spPr>
          <a:xfrm>
            <a:off x="2895480" y="6324480"/>
            <a:ext cx="30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Straight Arrow Connector 16"/>
          <p:cNvCxnSpPr/>
          <p:nvPr/>
        </p:nvCxnSpPr>
        <p:spPr>
          <a:xfrm flipV="1">
            <a:off x="2894400" y="6248160"/>
            <a:ext cx="2520" cy="38160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round Floor Pla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Rectangle 23"/>
          <p:cNvSpPr/>
          <p:nvPr/>
        </p:nvSpPr>
        <p:spPr>
          <a:xfrm>
            <a:off x="304920" y="990720"/>
            <a:ext cx="8686800" cy="759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7"/>
          <p:cNvGrpSpPr/>
          <p:nvPr/>
        </p:nvGrpSpPr>
        <p:grpSpPr>
          <a:xfrm>
            <a:off x="152280" y="1295280"/>
            <a:ext cx="8829720" cy="5260320"/>
            <a:chOff x="152280" y="1295280"/>
            <a:chExt cx="8829720" cy="5260320"/>
          </a:xfrm>
        </p:grpSpPr>
        <p:pic>
          <p:nvPicPr>
            <p:cNvPr id="376" name="Picture 16" descr="F--1115C-Presentation-Ground Floor Plan for presentation Schematic Plan Sh (1).tif"/>
            <p:cNvPicPr/>
            <p:nvPr/>
          </p:nvPicPr>
          <p:blipFill>
            <a:blip r:embed="rId1"/>
            <a:srcRect l="5353" t="0" r="3639" b="1109"/>
            <a:stretch/>
          </p:blipFill>
          <p:spPr>
            <a:xfrm rot="16200000">
              <a:off x="1937880" y="-490320"/>
              <a:ext cx="5258160" cy="882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Box 9"/>
            <p:cNvSpPr/>
            <p:nvPr/>
          </p:nvSpPr>
          <p:spPr>
            <a:xfrm>
              <a:off x="1296000" y="4724640"/>
              <a:ext cx="2187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SEMBLY R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0"/>
            <p:cNvSpPr/>
            <p:nvPr/>
          </p:nvSpPr>
          <p:spPr>
            <a:xfrm>
              <a:off x="4730040" y="3962520"/>
              <a:ext cx="942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BB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11"/>
            <p:cNvSpPr/>
            <p:nvPr/>
          </p:nvSpPr>
          <p:spPr>
            <a:xfrm>
              <a:off x="7091640" y="3962520"/>
              <a:ext cx="1415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IFT SH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2"/>
            <p:cNvSpPr/>
            <p:nvPr/>
          </p:nvSpPr>
          <p:spPr>
            <a:xfrm>
              <a:off x="6487200" y="2133360"/>
              <a:ext cx="1998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ETING R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13"/>
            <p:cNvSpPr/>
            <p:nvPr/>
          </p:nvSpPr>
          <p:spPr>
            <a:xfrm>
              <a:off x="4350240" y="1752480"/>
              <a:ext cx="1145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C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Box 16"/>
            <p:cNvSpPr/>
            <p:nvPr/>
          </p:nvSpPr>
          <p:spPr>
            <a:xfrm>
              <a:off x="3890520" y="2590560"/>
              <a:ext cx="105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17"/>
            <p:cNvSpPr/>
            <p:nvPr/>
          </p:nvSpPr>
          <p:spPr>
            <a:xfrm>
              <a:off x="3129120" y="2057040"/>
              <a:ext cx="70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20"/>
            <p:cNvSpPr/>
            <p:nvPr/>
          </p:nvSpPr>
          <p:spPr>
            <a:xfrm>
              <a:off x="2063160" y="236196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Box 21"/>
            <p:cNvSpPr/>
            <p:nvPr/>
          </p:nvSpPr>
          <p:spPr>
            <a:xfrm>
              <a:off x="1070640" y="236196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22"/>
            <p:cNvSpPr/>
            <p:nvPr/>
          </p:nvSpPr>
          <p:spPr>
            <a:xfrm>
              <a:off x="1452960" y="3276360"/>
              <a:ext cx="750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20"/>
            <p:cNvSpPr/>
            <p:nvPr/>
          </p:nvSpPr>
          <p:spPr>
            <a:xfrm>
              <a:off x="7851600" y="6248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8" name="Straight Arrow Connector 19"/>
          <p:cNvCxnSpPr/>
          <p:nvPr/>
        </p:nvCxnSpPr>
        <p:spPr>
          <a:xfrm flipV="1">
            <a:off x="7848720" y="6095160"/>
            <a:ext cx="2160" cy="38196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outh (front) Elev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90" name="Group 12"/>
          <p:cNvGrpSpPr/>
          <p:nvPr/>
        </p:nvGrpSpPr>
        <p:grpSpPr>
          <a:xfrm>
            <a:off x="762120" y="2514600"/>
            <a:ext cx="8076960" cy="3493080"/>
            <a:chOff x="762120" y="2514600"/>
            <a:chExt cx="8076960" cy="3493080"/>
          </a:xfrm>
        </p:grpSpPr>
        <p:sp>
          <p:nvSpPr>
            <p:cNvPr id="391" name="TextBox 5"/>
            <p:cNvSpPr/>
            <p:nvPr/>
          </p:nvSpPr>
          <p:spPr>
            <a:xfrm>
              <a:off x="1155240" y="5639400"/>
              <a:ext cx="2250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RIAGE H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6"/>
            <p:cNvSpPr/>
            <p:nvPr/>
          </p:nvSpPr>
          <p:spPr>
            <a:xfrm>
              <a:off x="3969360" y="5639400"/>
              <a:ext cx="263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OSED AD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" name="Picture 11" descr="F--1115C-Presentation-South Elevation 11X17 (1).tif"/>
            <p:cNvPicPr/>
            <p:nvPr/>
          </p:nvPicPr>
          <p:blipFill>
            <a:blip r:embed="rId1"/>
            <a:srcRect l="19741" t="5109" r="25002" b="4642"/>
            <a:stretch/>
          </p:blipFill>
          <p:spPr>
            <a:xfrm rot="16200000">
              <a:off x="3200040" y="76680"/>
              <a:ext cx="3201120" cy="807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0" descr="F--1115C-Presentation-West Elevation 11X17 (1).tif"/>
          <p:cNvPicPr/>
          <p:nvPr/>
        </p:nvPicPr>
        <p:blipFill>
          <a:blip r:embed="rId1"/>
          <a:srcRect l="17779" t="19093" r="25558" b="25963"/>
          <a:stretch/>
        </p:blipFill>
        <p:spPr>
          <a:xfrm>
            <a:off x="609480" y="2590920"/>
            <a:ext cx="4648320" cy="29160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5"/>
          <p:cNvSpPr/>
          <p:nvPr/>
        </p:nvSpPr>
        <p:spPr>
          <a:xfrm>
            <a:off x="3112560" y="5425920"/>
            <a:ext cx="179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IAGE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6"/>
          <p:cNvSpPr/>
          <p:nvPr/>
        </p:nvSpPr>
        <p:spPr>
          <a:xfrm>
            <a:off x="977400" y="54259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est Elev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486400" y="1676520"/>
            <a:ext cx="3502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store wood siding at Carriage Hous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stall hard board siding of recycled materials at addi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store original windows at Carriage Hous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stall new thermal-insulated wood windows at the addi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ovide separate entrance to accessible restrooms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orth Elev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400" name="Group 20"/>
          <p:cNvGrpSpPr/>
          <p:nvPr/>
        </p:nvGrpSpPr>
        <p:grpSpPr>
          <a:xfrm>
            <a:off x="304920" y="2133720"/>
            <a:ext cx="8153280" cy="3721320"/>
            <a:chOff x="304920" y="2133720"/>
            <a:chExt cx="8153280" cy="3721320"/>
          </a:xfrm>
        </p:grpSpPr>
        <p:sp>
          <p:nvSpPr>
            <p:cNvPr id="401" name="TextBox 13"/>
            <p:cNvSpPr/>
            <p:nvPr/>
          </p:nvSpPr>
          <p:spPr>
            <a:xfrm>
              <a:off x="692640" y="5486760"/>
              <a:ext cx="263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OSED AD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" name="Picture 19" descr="F--1115C-Presentation-North Elevation 11X17 (1).tif"/>
            <p:cNvPicPr/>
            <p:nvPr/>
          </p:nvPicPr>
          <p:blipFill>
            <a:blip r:embed="rId1"/>
            <a:srcRect l="35682" t="8160" r="7565" b="4525"/>
            <a:stretch/>
          </p:blipFill>
          <p:spPr>
            <a:xfrm rot="16200000">
              <a:off x="2666880" y="-227880"/>
              <a:ext cx="3429360" cy="815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F--1115C-Presentation-East Elevation 11X17 (1).tif"/>
          <p:cNvPicPr/>
          <p:nvPr/>
        </p:nvPicPr>
        <p:blipFill>
          <a:blip r:embed="rId1"/>
          <a:srcRect l="23333" t="24244" r="21111" b="19090"/>
          <a:stretch/>
        </p:blipFill>
        <p:spPr>
          <a:xfrm>
            <a:off x="380880" y="2666880"/>
            <a:ext cx="4618080" cy="30481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ast Elev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181480" y="167616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store wood shingle roof at Carriage House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stall new asphalt shingle roof at addi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ovide roof drainage system at both building components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store fenestration pattern of the Carriage Hous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reate covered visitor entrance on front elevation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TextBox 5"/>
          <p:cNvSpPr/>
          <p:nvPr/>
        </p:nvSpPr>
        <p:spPr>
          <a:xfrm>
            <a:off x="2596680" y="5410080"/>
            <a:ext cx="209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ED 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6"/>
          <p:cNvSpPr/>
          <p:nvPr/>
        </p:nvSpPr>
        <p:spPr>
          <a:xfrm>
            <a:off x="695520" y="5410080"/>
            <a:ext cx="179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IAGE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rior Featur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409" name="Group 12"/>
          <p:cNvGrpSpPr/>
          <p:nvPr/>
        </p:nvGrpSpPr>
        <p:grpSpPr>
          <a:xfrm>
            <a:off x="380880" y="1523880"/>
            <a:ext cx="5275440" cy="5108040"/>
            <a:chOff x="380880" y="1523880"/>
            <a:chExt cx="5275440" cy="5108040"/>
          </a:xfrm>
        </p:grpSpPr>
        <p:pic>
          <p:nvPicPr>
            <p:cNvPr id="410" name="Picture 5" descr="F--1115C-Presentation-Carriage House Interiro Elevations 11X17 (1).tif"/>
            <p:cNvPicPr/>
            <p:nvPr/>
          </p:nvPicPr>
          <p:blipFill>
            <a:blip r:embed="rId1"/>
            <a:srcRect l="0" t="12221" r="0" b="17777"/>
            <a:stretch/>
          </p:blipFill>
          <p:spPr>
            <a:xfrm rot="16200000">
              <a:off x="579960" y="1324800"/>
              <a:ext cx="4877280" cy="52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TextBox 6"/>
            <p:cNvSpPr/>
            <p:nvPr/>
          </p:nvSpPr>
          <p:spPr>
            <a:xfrm>
              <a:off x="543600" y="6324840"/>
              <a:ext cx="339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RRIAGE HOUSE – interior elev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Box 7"/>
            <p:cNvSpPr/>
            <p:nvPr/>
          </p:nvSpPr>
          <p:spPr>
            <a:xfrm>
              <a:off x="536400" y="602028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8"/>
            <p:cNvSpPr/>
            <p:nvPr/>
          </p:nvSpPr>
          <p:spPr>
            <a:xfrm>
              <a:off x="537480" y="3581280"/>
              <a:ext cx="71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Box 9"/>
            <p:cNvSpPr/>
            <p:nvPr/>
          </p:nvSpPr>
          <p:spPr>
            <a:xfrm>
              <a:off x="3660480" y="602028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A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Box 10"/>
            <p:cNvSpPr/>
            <p:nvPr/>
          </p:nvSpPr>
          <p:spPr>
            <a:xfrm>
              <a:off x="3661560" y="358128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 txBox="1"/>
          <p:nvPr/>
        </p:nvSpPr>
        <p:spPr>
          <a:xfrm>
            <a:off x="5409720" y="1676160"/>
            <a:ext cx="3581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store the horizontal wood boards at ground floor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store carriage and man door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Use recycled lumber for new flooring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Utilize the exterior walls for displays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stall general and exhibit lighting to support flexible use of space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7:43:13Z</dcterms:created>
  <dc:creator>employee3</dc:creator>
  <dc:description/>
  <dc:language>en-US</dc:language>
  <cp:lastModifiedBy>Beverly W. Crifasi</cp:lastModifiedBy>
  <dcterms:modified xsi:type="dcterms:W3CDTF">2013-03-22T14:44:20Z</dcterms:modified>
  <cp:revision>75</cp:revision>
  <dc:subject/>
  <dc:title>Bridget Smith House</dc:title>
</cp:coreProperties>
</file>