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8C1-8872-4808-9691-E510B4C3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D68-5F27-4904-A381-16A9A463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44B-CB01-4612-A494-967937E3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563F-C75F-45B4-976F-CA2B349C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D548-BCAF-410F-A827-3C90E305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3015-30DD-46F0-98A1-5869A606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1A4C-64F3-4771-8369-0B9E2008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A0A0-B5C1-46DB-BA29-987CB199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7DE4-7835-45DE-B6E9-4D729CC2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ACAA-C356-4F41-BC99-D82D128C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08B9-1582-41AB-93AB-2DAD52B9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3B1-349A-46EE-B5DC-B727FC8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5C15-8D97-4E5E-828D-CB3FC29B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2A4F-57DE-420B-A891-EE69F327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B0EA-7F1E-419B-88A8-F1B426D8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2943-F14C-4A62-8F3C-1BD1EE2B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0967-8470-4483-9137-BC829E13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F6512-A0E8-4020-B245-38CF9C1B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52D68-B68E-4322-ACC9-2BC4817D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74856-235E-47D0-862B-6F653050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B7A48-A7C3-4D04-982F-B014736B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EF77E-EF4D-4950-8881-761A4ADD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B09-6616-4C9E-A8F8-58282E5F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C1653-E46B-4422-9A5A-2EF74D7A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737AC-3CA9-49A2-B86A-0933BFEE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05773-B1E0-48CF-BA26-CB33AC5B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F3566-02B3-46EF-9222-2AEC0909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99222-7B68-4442-9F4A-814A8DD6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24A7B-552F-48D7-BE2E-0867152C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8E679-BB33-4150-8198-87B984FB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CFBBB-1996-4440-8B51-035005FD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6E8DF-34A0-45DE-9077-43C5DF5B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4BEB6-B18C-4E8C-B3BC-BF99F6C4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5AB-6CF6-495D-BF86-DFAF1FD6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AF76E-4844-40BF-8BF1-5879DBE2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5B447C-F6C0-4F1B-881D-42586703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6E7A9-9F63-4BB7-BFEF-3E098718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3462A-5D4D-4E2C-9B37-75A69B9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7F655-C823-49E0-AC68-3462F0B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FD59C-B6BB-4818-AFB5-1E869F79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533F9-5D98-47A1-9562-ECDC6844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4A9C3-B13B-4EF5-8486-8100AD1B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82923-B5C1-4FAB-99D2-4A9175A1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910E0-A1E2-4830-BAED-F480FECC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82C-AC34-4A6A-8E9E-2395638E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B557D0-7108-4AF8-A0E8-6438ECD1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A69B3-A23E-4244-99CF-ED730B83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DE3CE-6A32-4FB0-9B84-EC42A6C4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69415-BAB0-4F7F-9FDF-6D9FF47C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584D6-16BB-4B29-B155-CE776E31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9FA98-097E-437C-AC21-42F2297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77747-631B-49F7-80CD-15CB4FC6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282BF-D98C-475A-8B64-6CABA64A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83F4D-F944-4D53-B7E3-1F79D6F3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B1A61-5261-4769-B867-384C3DA9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1CE-B59D-40BE-B612-C5B94E5D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94712-D437-4C45-9508-7D64306F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F003F-18CA-4F12-9862-957C4AAE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8077A-D631-41C3-B2BD-980B1E80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F7F54-F512-4DB8-AA54-67B6E4B0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03E64-6597-4C29-946E-90C2E8AB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59256-29D0-4FBE-9ECF-94B116B4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C0227-F89D-4E17-8C56-234F28C0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D0B59-1081-499F-BACF-872C14F7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E3DEE-498E-4D1F-AA01-C70B2894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2C121-3636-410D-BC27-BEC4467C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B7A-9BEF-40FD-BD45-24F64553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A0960-A998-4083-B82A-0B72579C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96920-7041-4EDB-9CF7-59BD281B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62016-2D4D-49B9-82B5-19E60F8A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40A13-27BC-4FAE-8796-EE636615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04069-B034-4576-8C4C-566B9B36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A5BFD-126B-4309-B32E-BFAF75CE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E57A91-6CC0-4478-BC34-564F0FA2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CC2E7-2C02-44D8-B59E-0DB70891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2ED87-DFB5-4A30-AD25-650ABD66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0B4F02-DC1A-4171-A8AE-4C7C56D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DE1-C0BD-4DCB-A3FC-14836451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B8622-4E30-49ED-BB0A-7363420E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583A5E-4CE2-4F65-86A4-DE8C6193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747E60-7EC6-46C9-8909-9BE697A3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9034E-B0DF-4A8A-AC00-D05F3E9A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85FBD-B37F-421E-A37F-518F3FCB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E62C8-826D-4103-927A-2696FFA5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1061D-9B1E-4FFC-A9FA-A18FEF4D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87E04-B057-4747-A139-72FB2C5E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6FA62-32E7-44B4-97C5-D212645F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22EE8-1DE3-4207-B567-8A41D4D0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4C7-FFF8-4DCD-B9D4-42E3C192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671C4-C9A1-4E5F-8C8D-132B6E1E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9477E-3FC0-4A30-8CEA-BC150B74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0E009-2C3C-46CA-8E8B-3CE82D4A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1A381-B4AA-410E-A4D8-E543556E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0F0DC-4050-4A83-818B-49EA3576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ADDB5-91C8-4164-A51C-307B8DC7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3E23F-12E7-4224-B567-8FBD564E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93D0-41AC-45E2-AB65-D17AC91332B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E070-9038-4D37-A727-A2C6F09C5E80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49AB-C464-4E43-B165-D989D9CA4BBB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9A7-3EB5-4696-9D34-8E5BCD11291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22B2-C957-4BF9-9B0A-AB4C2230C21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CB03-EA67-4E34-B23C-DE4FE3AC7F6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B7EC-68B4-4317-AFFA-9C89E666E63C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0C57-42D4-487D-989F-00BCD92C29A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3505320"/>
            <a:ext cx="8153280" cy="230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ARRIAGE HOUSE EXPANSION </a:t>
            </a:r>
            <a:br>
              <a:rPr sz="4400"/>
            </a:br>
            <a:r>
              <a:rPr b="0" lang="en-US" sz="2000" spc="-1" strike="noStrike">
                <a:solidFill>
                  <a:srgbClr val="ebddc3"/>
                </a:solidFill>
                <a:latin typeface="Tw Cen MT"/>
              </a:rPr>
              <a:t>AT THE GROVER CLEVELAND BIRTHPLACE</a:t>
            </a:r>
            <a:endParaRPr b="0" lang="en-US" sz="2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esign and Contract Documents – March 2013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P1160421.JPG"/>
          <p:cNvPicPr/>
          <p:nvPr/>
        </p:nvPicPr>
        <p:blipFill>
          <a:blip r:embed="rId1"/>
          <a:stretch/>
        </p:blipFill>
        <p:spPr>
          <a:xfrm>
            <a:off x="1738440" y="457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53" name="Subtitle 2"/>
          <p:cNvSpPr/>
          <p:nvPr/>
        </p:nvSpPr>
        <p:spPr>
          <a:xfrm>
            <a:off x="0" y="609588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Connolly &amp; Hickey Historical Architects, L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4060440" y="4572000"/>
            <a:ext cx="362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w Cen MT"/>
              </a:rPr>
              <a:t>Photo Credit: Connolly &amp; Hickey Historical Architects,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rior Featur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895480" y="1676520"/>
            <a:ext cx="6096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Use products in new addition with following attributes: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ost-and pre-consumer recycled conten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ade in Americ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Low Volatile Organic Compounds (VOCs).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9" name="Picture 12" descr="RSTP506_TP058_2.jpg"/>
          <p:cNvPicPr/>
          <p:nvPr/>
        </p:nvPicPr>
        <p:blipFill>
          <a:blip r:embed="rId1"/>
          <a:srcRect l="31671" t="0" r="31671" b="0"/>
          <a:stretch/>
        </p:blipFill>
        <p:spPr>
          <a:xfrm>
            <a:off x="609480" y="1676520"/>
            <a:ext cx="2210040" cy="3090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6" descr="DT_VIBE_COM_550x550.jpg"/>
          <p:cNvPicPr/>
          <p:nvPr/>
        </p:nvPicPr>
        <p:blipFill>
          <a:blip r:embed="rId2"/>
          <a:stretch/>
        </p:blipFill>
        <p:spPr>
          <a:xfrm>
            <a:off x="2514600" y="4038480"/>
            <a:ext cx="2349360" cy="234972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7"/>
          <p:cNvSpPr/>
          <p:nvPr/>
        </p:nvSpPr>
        <p:spPr>
          <a:xfrm>
            <a:off x="537840" y="48006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-based tile for flo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8"/>
          <p:cNvSpPr/>
          <p:nvPr/>
        </p:nvSpPr>
        <p:spPr>
          <a:xfrm>
            <a:off x="2446200" y="6400800"/>
            <a:ext cx="25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celain tile for walls in restr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9" descr="F--1115C-Presentation-Carriage House Interiro Elevations moulding (1).tif"/>
          <p:cNvPicPr/>
          <p:nvPr/>
        </p:nvPicPr>
        <p:blipFill>
          <a:blip r:embed="rId3"/>
          <a:srcRect l="34446" t="55153" r="53335" b="7072"/>
          <a:stretch/>
        </p:blipFill>
        <p:spPr>
          <a:xfrm>
            <a:off x="5029200" y="4038480"/>
            <a:ext cx="1219320" cy="2438640"/>
          </a:xfrm>
          <a:prstGeom prst="rect">
            <a:avLst/>
          </a:prstGeom>
          <a:ln w="0">
            <a:noFill/>
          </a:ln>
        </p:spPr>
      </p:pic>
      <p:sp>
        <p:nvSpPr>
          <p:cNvPr id="424" name="Content Placeholder 2"/>
          <p:cNvSpPr/>
          <p:nvPr/>
        </p:nvSpPr>
        <p:spPr>
          <a:xfrm>
            <a:off x="5715000" y="4800600"/>
            <a:ext cx="327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corporate traditional details, such as wood door and window surrounds, picture mouldings and tr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21"/>
          <p:cNvSpPr/>
          <p:nvPr/>
        </p:nvSpPr>
        <p:spPr>
          <a:xfrm>
            <a:off x="5184000" y="6400800"/>
            <a:ext cx="174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picture mou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stimates of Probable Co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685800" y="1752480"/>
          <a:ext cx="5289480" cy="4583160"/>
        </p:xfrm>
        <a:graphic>
          <a:graphicData uri="http://schemas.openxmlformats.org/drawingml/2006/table">
            <a:tbl>
              <a:tblPr/>
              <a:tblGrid>
                <a:gridCol w="762120"/>
                <a:gridCol w="2133360"/>
                <a:gridCol w="2394000"/>
              </a:tblGrid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.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06,9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4,7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64,46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n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9,44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5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e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71,7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isture Pro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72,8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ors &amp; Windo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8,75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h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76,01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2,87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nish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,8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Co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ying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83,35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5,2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839,49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42ae483c-892d-45b7-a363-3db9f7120b18" descr="B4CE6674-3384-4CF4-9797-6D150EF904C4@hsd1"/>
          <p:cNvPicPr/>
          <p:nvPr/>
        </p:nvPicPr>
        <p:blipFill>
          <a:blip r:embed="rId1"/>
          <a:stretch/>
        </p:blipFill>
        <p:spPr>
          <a:xfrm>
            <a:off x="-6480" y="1143000"/>
            <a:ext cx="9150480" cy="48672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8"/>
          <p:cNvSpPr/>
          <p:nvPr/>
        </p:nvSpPr>
        <p:spPr>
          <a:xfrm>
            <a:off x="304920" y="990720"/>
            <a:ext cx="8686800" cy="75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itle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riage House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itle 1"/>
          <p:cNvSpPr/>
          <p:nvPr/>
        </p:nvSpPr>
        <p:spPr>
          <a:xfrm>
            <a:off x="380880" y="6095880"/>
            <a:ext cx="8153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at the Grover Cleveland Birth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ogram Require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the existing Carriage House to serve as a meeting space to support museum and visitor activities at the Grover Cleveland Birthplac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28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esign an addition that includes a welcoming area, gift shop, meeting space, docent area and accessible restrooms.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28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eign new addition to complement the Carriage House’s architecture and work with the site and its current amenities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28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corporate new technologies and materials in the design of the new addition that are sustainabl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e Pla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7652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ite Diagram showing Birthplace, Carriage House and proposed addit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7" descr="F--1115C-AutoCAD-Final Design-Plans-Site Plan-SITE PLAN FOR presentation 11X17 (1).tif"/>
          <p:cNvPicPr/>
          <p:nvPr/>
        </p:nvPicPr>
        <p:blipFill>
          <a:blip r:embed="rId1"/>
          <a:stretch/>
        </p:blipFill>
        <p:spPr>
          <a:xfrm>
            <a:off x="2971800" y="380880"/>
            <a:ext cx="5324400" cy="60962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8"/>
          <p:cNvSpPr/>
          <p:nvPr/>
        </p:nvSpPr>
        <p:spPr>
          <a:xfrm>
            <a:off x="2374560" y="2362320"/>
            <a:ext cx="225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AG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Straight Arrow Connector 10"/>
          <p:cNvCxnSpPr/>
          <p:nvPr/>
        </p:nvCxnSpPr>
        <p:spPr>
          <a:xfrm>
            <a:off x="4724280" y="2590560"/>
            <a:ext cx="457920" cy="1530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2" name="Straight Connector 12"/>
          <p:cNvSpPr/>
          <p:nvPr/>
        </p:nvSpPr>
        <p:spPr>
          <a:xfrm>
            <a:off x="4637160" y="2546280"/>
            <a:ext cx="1440" cy="18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4"/>
          <p:cNvSpPr/>
          <p:nvPr/>
        </p:nvSpPr>
        <p:spPr>
          <a:xfrm>
            <a:off x="4572000" y="2590920"/>
            <a:ext cx="15228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2522160" y="4114800"/>
            <a:ext cx="1614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Straight Arrow Connector 18"/>
          <p:cNvCxnSpPr/>
          <p:nvPr/>
        </p:nvCxnSpPr>
        <p:spPr>
          <a:xfrm>
            <a:off x="4191120" y="4343040"/>
            <a:ext cx="457920" cy="1530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6" name="Straight Connector 19"/>
          <p:cNvSpPr/>
          <p:nvPr/>
        </p:nvSpPr>
        <p:spPr>
          <a:xfrm>
            <a:off x="4038480" y="4343400"/>
            <a:ext cx="15264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1"/>
          <p:cNvSpPr/>
          <p:nvPr/>
        </p:nvSpPr>
        <p:spPr>
          <a:xfrm>
            <a:off x="6179040" y="1752480"/>
            <a:ext cx="127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Straight Arrow Connector 22"/>
          <p:cNvCxnSpPr/>
          <p:nvPr/>
        </p:nvCxnSpPr>
        <p:spPr>
          <a:xfrm flipH="1">
            <a:off x="5866560" y="1905120"/>
            <a:ext cx="229320" cy="3052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9" name="Straight Connector 25"/>
          <p:cNvSpPr/>
          <p:nvPr/>
        </p:nvSpPr>
        <p:spPr>
          <a:xfrm>
            <a:off x="6095880" y="1905120"/>
            <a:ext cx="15264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6"/>
          <p:cNvSpPr/>
          <p:nvPr/>
        </p:nvSpPr>
        <p:spPr>
          <a:xfrm>
            <a:off x="4190400" y="6248520"/>
            <a:ext cx="2657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FIELD A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7"/>
          <p:cNvSpPr/>
          <p:nvPr/>
        </p:nvSpPr>
        <p:spPr>
          <a:xfrm>
            <a:off x="2895480" y="6324480"/>
            <a:ext cx="30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Straight Arrow Connector 16"/>
          <p:cNvCxnSpPr/>
          <p:nvPr/>
        </p:nvCxnSpPr>
        <p:spPr>
          <a:xfrm flipV="1">
            <a:off x="2894400" y="6248160"/>
            <a:ext cx="2520" cy="38160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ound Floor Pla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Rectangle 23"/>
          <p:cNvSpPr/>
          <p:nvPr/>
        </p:nvSpPr>
        <p:spPr>
          <a:xfrm>
            <a:off x="304920" y="990720"/>
            <a:ext cx="8686800" cy="75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7"/>
          <p:cNvGrpSpPr/>
          <p:nvPr/>
        </p:nvGrpSpPr>
        <p:grpSpPr>
          <a:xfrm>
            <a:off x="152280" y="1295280"/>
            <a:ext cx="8829720" cy="5260320"/>
            <a:chOff x="152280" y="1295280"/>
            <a:chExt cx="8829720" cy="5260320"/>
          </a:xfrm>
        </p:grpSpPr>
        <p:pic>
          <p:nvPicPr>
            <p:cNvPr id="376" name="Picture 16" descr="F--1115C-Presentation-Ground Floor Plan for presentation Schematic Plan Sh (1).tif"/>
            <p:cNvPicPr/>
            <p:nvPr/>
          </p:nvPicPr>
          <p:blipFill>
            <a:blip r:embed="rId1"/>
            <a:srcRect l="5353" t="0" r="3639" b="1109"/>
            <a:stretch/>
          </p:blipFill>
          <p:spPr>
            <a:xfrm rot="16200000">
              <a:off x="1937880" y="-490320"/>
              <a:ext cx="5258160" cy="882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Box 9"/>
            <p:cNvSpPr/>
            <p:nvPr/>
          </p:nvSpPr>
          <p:spPr>
            <a:xfrm>
              <a:off x="1296000" y="4724640"/>
              <a:ext cx="2187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EMBLY R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0"/>
            <p:cNvSpPr/>
            <p:nvPr/>
          </p:nvSpPr>
          <p:spPr>
            <a:xfrm>
              <a:off x="4730040" y="3962520"/>
              <a:ext cx="942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B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11"/>
            <p:cNvSpPr/>
            <p:nvPr/>
          </p:nvSpPr>
          <p:spPr>
            <a:xfrm>
              <a:off x="7091640" y="3962520"/>
              <a:ext cx="1415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IFT SH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2"/>
            <p:cNvSpPr/>
            <p:nvPr/>
          </p:nvSpPr>
          <p:spPr>
            <a:xfrm>
              <a:off x="6487200" y="2133360"/>
              <a:ext cx="1998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ETING R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13"/>
            <p:cNvSpPr/>
            <p:nvPr/>
          </p:nvSpPr>
          <p:spPr>
            <a:xfrm>
              <a:off x="4350240" y="1752480"/>
              <a:ext cx="1145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16"/>
            <p:cNvSpPr/>
            <p:nvPr/>
          </p:nvSpPr>
          <p:spPr>
            <a:xfrm>
              <a:off x="3890520" y="2590560"/>
              <a:ext cx="105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17"/>
            <p:cNvSpPr/>
            <p:nvPr/>
          </p:nvSpPr>
          <p:spPr>
            <a:xfrm>
              <a:off x="3129120" y="2057040"/>
              <a:ext cx="70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2063160" y="2361960"/>
              <a:ext cx="88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21"/>
            <p:cNvSpPr/>
            <p:nvPr/>
          </p:nvSpPr>
          <p:spPr>
            <a:xfrm>
              <a:off x="1070640" y="236196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22"/>
            <p:cNvSpPr/>
            <p:nvPr/>
          </p:nvSpPr>
          <p:spPr>
            <a:xfrm>
              <a:off x="1452960" y="3276360"/>
              <a:ext cx="750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0"/>
            <p:cNvSpPr/>
            <p:nvPr/>
          </p:nvSpPr>
          <p:spPr>
            <a:xfrm>
              <a:off x="7851600" y="6248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8" name="Straight Arrow Connector 19"/>
          <p:cNvCxnSpPr/>
          <p:nvPr/>
        </p:nvCxnSpPr>
        <p:spPr>
          <a:xfrm flipV="1">
            <a:off x="7848720" y="6095160"/>
            <a:ext cx="2160" cy="38196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outh (front) Ele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90" name="Group 12"/>
          <p:cNvGrpSpPr/>
          <p:nvPr/>
        </p:nvGrpSpPr>
        <p:grpSpPr>
          <a:xfrm>
            <a:off x="762120" y="2514600"/>
            <a:ext cx="8076960" cy="3493080"/>
            <a:chOff x="762120" y="2514600"/>
            <a:chExt cx="8076960" cy="3493080"/>
          </a:xfrm>
        </p:grpSpPr>
        <p:sp>
          <p:nvSpPr>
            <p:cNvPr id="391" name="TextBox 5"/>
            <p:cNvSpPr/>
            <p:nvPr/>
          </p:nvSpPr>
          <p:spPr>
            <a:xfrm>
              <a:off x="1155240" y="5639400"/>
              <a:ext cx="2250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RIAGE H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6"/>
            <p:cNvSpPr/>
            <p:nvPr/>
          </p:nvSpPr>
          <p:spPr>
            <a:xfrm>
              <a:off x="3969360" y="5639400"/>
              <a:ext cx="263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OSED AD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Picture 11" descr="F--1115C-Presentation-South Elevation 11X17 (1).tif"/>
            <p:cNvPicPr/>
            <p:nvPr/>
          </p:nvPicPr>
          <p:blipFill>
            <a:blip r:embed="rId1"/>
            <a:srcRect l="19741" t="5109" r="25002" b="4642"/>
            <a:stretch/>
          </p:blipFill>
          <p:spPr>
            <a:xfrm rot="16200000">
              <a:off x="3200040" y="76680"/>
              <a:ext cx="3201120" cy="807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0" descr="F--1115C-Presentation-West Elevation 11X17 (1).tif"/>
          <p:cNvPicPr/>
          <p:nvPr/>
        </p:nvPicPr>
        <p:blipFill>
          <a:blip r:embed="rId1"/>
          <a:srcRect l="17779" t="19093" r="25558" b="25963"/>
          <a:stretch/>
        </p:blipFill>
        <p:spPr>
          <a:xfrm>
            <a:off x="609480" y="2590920"/>
            <a:ext cx="4648320" cy="2916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5"/>
          <p:cNvSpPr/>
          <p:nvPr/>
        </p:nvSpPr>
        <p:spPr>
          <a:xfrm>
            <a:off x="3112560" y="5425920"/>
            <a:ext cx="179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IAGE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977400" y="54259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est Ele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486400" y="1676520"/>
            <a:ext cx="3502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wood siding at Carriage Hous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stall hard board siding of recycled materials at addi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original windows at Carriage Hous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stall new thermal-insulated wood windows at the addi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ovide separate entrance to accessible restrooms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orth Ele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400" name="Group 20"/>
          <p:cNvGrpSpPr/>
          <p:nvPr/>
        </p:nvGrpSpPr>
        <p:grpSpPr>
          <a:xfrm>
            <a:off x="304920" y="2133720"/>
            <a:ext cx="8153280" cy="3721320"/>
            <a:chOff x="304920" y="2133720"/>
            <a:chExt cx="8153280" cy="3721320"/>
          </a:xfrm>
        </p:grpSpPr>
        <p:sp>
          <p:nvSpPr>
            <p:cNvPr id="401" name="TextBox 13"/>
            <p:cNvSpPr/>
            <p:nvPr/>
          </p:nvSpPr>
          <p:spPr>
            <a:xfrm>
              <a:off x="692640" y="5486760"/>
              <a:ext cx="263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OSED AD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" name="Picture 19" descr="F--1115C-Presentation-North Elevation 11X17 (1).tif"/>
            <p:cNvPicPr/>
            <p:nvPr/>
          </p:nvPicPr>
          <p:blipFill>
            <a:blip r:embed="rId1"/>
            <a:srcRect l="35682" t="8160" r="7565" b="4525"/>
            <a:stretch/>
          </p:blipFill>
          <p:spPr>
            <a:xfrm rot="16200000">
              <a:off x="2666880" y="-227880"/>
              <a:ext cx="3429360" cy="815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F--1115C-Presentation-East Elevation 11X17 (1).tif"/>
          <p:cNvPicPr/>
          <p:nvPr/>
        </p:nvPicPr>
        <p:blipFill>
          <a:blip r:embed="rId1"/>
          <a:srcRect l="23333" t="24244" r="21111" b="19090"/>
          <a:stretch/>
        </p:blipFill>
        <p:spPr>
          <a:xfrm>
            <a:off x="380880" y="2666880"/>
            <a:ext cx="4618080" cy="30481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ast Ele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181480" y="167616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wood shingle roof at Carriage Hous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stall new asphalt shingle roof at addi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ovide roof drainage system at both building components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fenestration pattern of the Carriage Hous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reate covered visitor entrance on front elevation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2596680" y="5410080"/>
            <a:ext cx="20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695520" y="5410080"/>
            <a:ext cx="179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IAGE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rior Featur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409" name="Group 12"/>
          <p:cNvGrpSpPr/>
          <p:nvPr/>
        </p:nvGrpSpPr>
        <p:grpSpPr>
          <a:xfrm>
            <a:off x="380880" y="1523880"/>
            <a:ext cx="5275440" cy="5108040"/>
            <a:chOff x="380880" y="1523880"/>
            <a:chExt cx="5275440" cy="5108040"/>
          </a:xfrm>
        </p:grpSpPr>
        <p:pic>
          <p:nvPicPr>
            <p:cNvPr id="410" name="Picture 5" descr="F--1115C-Presentation-Carriage House Interiro Elevations 11X17 (1).tif"/>
            <p:cNvPicPr/>
            <p:nvPr/>
          </p:nvPicPr>
          <p:blipFill>
            <a:blip r:embed="rId1"/>
            <a:srcRect l="0" t="12221" r="0" b="17777"/>
            <a:stretch/>
          </p:blipFill>
          <p:spPr>
            <a:xfrm rot="16200000">
              <a:off x="579960" y="1324800"/>
              <a:ext cx="4877280" cy="52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Box 6"/>
            <p:cNvSpPr/>
            <p:nvPr/>
          </p:nvSpPr>
          <p:spPr>
            <a:xfrm>
              <a:off x="543600" y="6324840"/>
              <a:ext cx="339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RRIAGE HOUSE – interior elev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Box 7"/>
            <p:cNvSpPr/>
            <p:nvPr/>
          </p:nvSpPr>
          <p:spPr>
            <a:xfrm>
              <a:off x="536400" y="602028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"/>
            <p:cNvSpPr/>
            <p:nvPr/>
          </p:nvSpPr>
          <p:spPr>
            <a:xfrm>
              <a:off x="537480" y="3581280"/>
              <a:ext cx="71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9"/>
            <p:cNvSpPr/>
            <p:nvPr/>
          </p:nvSpPr>
          <p:spPr>
            <a:xfrm>
              <a:off x="3660480" y="602028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A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Box 10"/>
            <p:cNvSpPr/>
            <p:nvPr/>
          </p:nvSpPr>
          <p:spPr>
            <a:xfrm>
              <a:off x="3661560" y="358128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 txBox="1"/>
          <p:nvPr/>
        </p:nvSpPr>
        <p:spPr>
          <a:xfrm>
            <a:off x="5409720" y="1676160"/>
            <a:ext cx="3581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the horizontal wood boards at ground floor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tore carriage and man door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Use recycled lumber for new flooring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Utilize the exterior walls for displays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stall general and exhibit lighting to support flexible use of spac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7:43:13Z</dcterms:created>
  <dc:creator>employee3</dc:creator>
  <dc:description/>
  <dc:language>en-US</dc:language>
  <cp:lastModifiedBy>Beverly W. Crifasi</cp:lastModifiedBy>
  <dcterms:modified xsi:type="dcterms:W3CDTF">2013-03-22T14:44:20Z</dcterms:modified>
  <cp:revision>75</cp:revision>
  <dc:subject/>
  <dc:title>Bridget Smith House</dc:title>
</cp:coreProperties>
</file>